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C90-8D96-49F9-A0DE-E9579306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71F-59E8-4E44-84A6-4F4E3123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F9E-5260-43B7-8B1C-5C7F45D5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CDF-807C-443A-B853-F5FB0E26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E24-73E5-4408-B0AF-7DC69BC1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EA4-A722-4E15-A739-C2C7912D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11F-8135-4810-900B-F0CAFC41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3BB-1611-47C6-8B97-292A770D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CCD-A061-46B1-81CF-5212C7B3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A45B-9908-4CA1-A7A0-B72E2F9E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F9E-7AD2-42FA-8121-98E80826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824-8C33-421F-A520-EEF33BE4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6132-EE1E-47C7-8DB1-B38FF70B6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plain of green s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 parachutes that 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 Kentucky b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rd the sharps of d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bgrass persistently def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quers the yard compl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429000" y="2285640"/>
            <a:ext cx="1752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7880" y="28954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8040" y="3505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3920" y="28954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bg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2200" y="838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11840" y="10666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4000" y="13716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8200" y="15238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m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92400" y="22860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2080" y="40384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8320" y="22096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ne g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505320"/>
            <a:ext cx="16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tucky blue g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4680" y="51055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280" y="51055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2560" y="44956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44956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8480" y="51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3640" y="57913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1080" y="55180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876920" y="19807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12408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2819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289548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4419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952880" y="25142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434340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4648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276720" y="28954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267080"/>
            <a:ext cx="2286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548640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533412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590920" y="251460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362320" y="2666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2895120" y="16765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733560" y="137160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343400" y="1828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45:33Z</dcterms:created>
  <dc:creator>Tamera Detrick-Posthumus</dc:creator>
  <dc:description/>
  <dc:language>en-US</dc:language>
  <cp:lastModifiedBy>Tamera Detrick-Posthumus</cp:lastModifiedBy>
  <dcterms:modified xsi:type="dcterms:W3CDTF">2009-10-02T00:36:29Z</dcterms:modified>
  <cp:revision>3</cp:revision>
  <dc:subject/>
  <dc:title>PowerPoint Presentation</dc:title>
</cp:coreProperties>
</file>